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zapbig0g.wav" ContentType="audio/x-wav"/>
  <Override PartName="/ppt/media/zipdn102.wav" ContentType="audio/x-wav"/>
  <Override PartName="/ppt/media/caralarmoff.wav" ContentType="audio/x-wav"/>
  <Override PartName="/ppt/media/jetflyby.wav" ContentType="audio/x-wav"/>
  <Override PartName="/ppt/media/LASER.WAV" ContentType="audio/x-wav"/>
  <Override PartName="/ppt/media/CAMERA.WAV" ContentType="audio/x-wav"/>
  <Override PartName="/ppt/media/image1.jpeg" ContentType="image/jpeg"/>
  <Override PartName="/ppt/media/CARBRAKE.WAV" ContentType="audio/x-wav"/>
  <Override PartName="/ppt/media/DRIVEBY.WAV" ContentType="audio/x-wav"/>
  <Override PartName="/ppt/media/hzipup01.wav" ContentType="audio/x-wav"/>
  <Override PartName="/ppt/media/CHIMES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8FA-31D2-48BA-86D7-2966664A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8E0-95E8-4C2D-9259-3C10E7E6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A67-21EE-4A15-B49D-9500A36C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D26-3FF7-4C38-8F19-23DB00A2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679-0669-468A-AFF6-0FD7BC08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A9C-650D-47D9-AFBC-358BA1A4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AAA-8CBF-408B-81E9-B294CDF5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755-8C17-4A2B-BDEB-9987A4F6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9B5-BD99-4DB1-A412-DB83F58F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323-8626-4262-B65A-A323916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20A-00ED-4CB0-A96A-D8195CE0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2A6-E6EE-4E91-9F58-CE3BB6B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9625-0687-4BF1-B67A-7FE982510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jetflyby.wav"/><Relationship Id="rId6" Type="http://schemas.openxmlformats.org/officeDocument/2006/relationships/audio" Target="../media/caralarmoff.wav"/><Relationship Id="rId7" Type="http://schemas.openxmlformats.org/officeDocument/2006/relationships/audio" Target="../media/LASER.WAV"/><Relationship Id="rId8" Type="http://schemas.openxmlformats.org/officeDocument/2006/relationships/audio" Target="../media/CARBRAKE.WAV"/><Relationship Id="rId9" Type="http://schemas.openxmlformats.org/officeDocument/2006/relationships/audio" Target="../media/hzipup01.wav"/><Relationship Id="rId10" Type="http://schemas.openxmlformats.org/officeDocument/2006/relationships/audio" Target="../media/CARBRAKE.WAV"/><Relationship Id="rId11" Type="http://schemas.openxmlformats.org/officeDocument/2006/relationships/audio" Target="../media/hzipup01.wav"/><Relationship Id="rId12" Type="http://schemas.openxmlformats.org/officeDocument/2006/relationships/audio" Target="../media/CARBRAKE.WAV"/><Relationship Id="rId13" Type="http://schemas.openxmlformats.org/officeDocument/2006/relationships/audio" Target="../media/hzipup01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DRIVEBY.WAV"/><Relationship Id="rId21" Type="http://schemas.openxmlformats.org/officeDocument/2006/relationships/audio" Target="../media/CARBRAKE.WAV"/><Relationship Id="rId22" Type="http://schemas.openxmlformats.org/officeDocument/2006/relationships/audio" Target="../media/DRIVEBY.WAV"/><Relationship Id="rId23" Type="http://schemas.openxmlformats.org/officeDocument/2006/relationships/audio" Target="../media/DRIVEBY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MERA.WAV"/><Relationship Id="rId3" Type="http://schemas.openxmlformats.org/officeDocument/2006/relationships/audio" Target="../media/jetflyby.wav"/><Relationship Id="rId4" Type="http://schemas.openxmlformats.org/officeDocument/2006/relationships/audio" Target="../media/caralarmoff.wav"/><Relationship Id="rId5" Type="http://schemas.openxmlformats.org/officeDocument/2006/relationships/audio" Target="../media/CAMERA.WAV"/><Relationship Id="rId6" Type="http://schemas.openxmlformats.org/officeDocument/2006/relationships/audio" Target="../media/jetflyby.wav"/><Relationship Id="rId7" Type="http://schemas.openxmlformats.org/officeDocument/2006/relationships/audio" Target="../media/caralarmoff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CARBRAKE.WAV"/><Relationship Id="rId24" Type="http://schemas.openxmlformats.org/officeDocument/2006/relationships/audio" Target="../media/DRIVEBY.WAV"/><Relationship Id="rId25" Type="http://schemas.openxmlformats.org/officeDocument/2006/relationships/audio" Target="../media/DRIVEBY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CARBRAKE.WAV"/><Relationship Id="rId33" Type="http://schemas.openxmlformats.org/officeDocument/2006/relationships/audio" Target="../media/DRIVEBY.WAV"/><Relationship Id="rId34" Type="http://schemas.openxmlformats.org/officeDocument/2006/relationships/audio" Target="../media/DRIVEBY.WAV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caralarmoff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DRIVEBY.WAV"/><Relationship Id="rId19" Type="http://schemas.openxmlformats.org/officeDocument/2006/relationships/audio" Target="../media/CARBRAKE.WAV"/><Relationship Id="rId20" Type="http://schemas.openxmlformats.org/officeDocument/2006/relationships/audio" Target="../media/DRIVEBY.WAV"/><Relationship Id="rId21" Type="http://schemas.openxmlformats.org/officeDocument/2006/relationships/audio" Target="../media/DRIVEBY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jetflyby.wav"/><Relationship Id="rId3" Type="http://schemas.openxmlformats.org/officeDocument/2006/relationships/audio" Target="../media/caralarmoff.wav"/><Relationship Id="rId4" Type="http://schemas.openxmlformats.org/officeDocument/2006/relationships/audio" Target="../media/LASER.WAV"/><Relationship Id="rId5" Type="http://schemas.openxmlformats.org/officeDocument/2006/relationships/audio" Target="../media/CARBRAKE.WAV"/><Relationship Id="rId6" Type="http://schemas.openxmlformats.org/officeDocument/2006/relationships/audio" Target="../media/hzipup01.wav"/><Relationship Id="rId7" Type="http://schemas.openxmlformats.org/officeDocument/2006/relationships/audio" Target="../media/CARBRAKE.WAV"/><Relationship Id="rId8" Type="http://schemas.openxmlformats.org/officeDocument/2006/relationships/audio" Target="../media/hzipup01.wav"/><Relationship Id="rId9" Type="http://schemas.openxmlformats.org/officeDocument/2006/relationships/audio" Target="../media/CARBRAKE.WAV"/><Relationship Id="rId10" Type="http://schemas.openxmlformats.org/officeDocument/2006/relationships/audio" Target="../media/hzipup01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DRIVEBY.WAV"/><Relationship Id="rId18" Type="http://schemas.openxmlformats.org/officeDocument/2006/relationships/audio" Target="../media/CARBRAKE.WAV"/><Relationship Id="rId19" Type="http://schemas.openxmlformats.org/officeDocument/2006/relationships/audio" Target="../media/DRIVEBY.WAV"/><Relationship Id="rId20" Type="http://schemas.openxmlformats.org/officeDocument/2006/relationships/audio" Target="../media/DRIVEBY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ralarmoff.wav"/><Relationship Id="rId8" Type="http://schemas.openxmlformats.org/officeDocument/2006/relationships/audio" Target="../media/fastcar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CARBRAKE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caralarmoff.wav"/><Relationship Id="rId25" Type="http://schemas.openxmlformats.org/officeDocument/2006/relationships/audio" Target="../media/zipdn102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audio" Target="../media/caralarmoff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ipdn102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12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Make a box-and-whisker plot for the follow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75248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1  35  61  40  22  33  29  40  62  21  49  72  75  28  21  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21  21  22  28  29  33  35  40  40  49  54  61  61  62  72  7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666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2666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3581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" y="4724280"/>
            <a:ext cx="8915400" cy="688320"/>
            <a:chOff x="228600" y="4724280"/>
            <a:chExt cx="8915400" cy="688320"/>
          </a:xfrm>
        </p:grpSpPr>
        <p:sp>
          <p:nvSpPr>
            <p:cNvPr id="52" name=""/>
            <p:cNvSpPr/>
            <p:nvPr/>
          </p:nvSpPr>
          <p:spPr>
            <a:xfrm>
              <a:off x="228600" y="48769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952880"/>
              <a:ext cx="89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0     25     30     35     40     45     50     55     60     65     70     75    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86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3352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4680" y="57913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8608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76800" y="577224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8628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1120" y="5581800"/>
            <a:ext cx="457200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81320" y="556272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47640" y="5867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134040" y="5867280"/>
            <a:ext cx="186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67400" y="337176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38600" y="337176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96200" y="337176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67400" y="23050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8600" y="23050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96200" y="23050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287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7  68  71  76  79  79  82  84  85  90  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12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Use box-and-whisker plots to compare test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752480"/>
            <a:ext cx="672444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2  84  76  68  90  67  82  71  79  85  79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62080" y="51055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040" y="51055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62000" y="51055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6480" y="51055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43480" y="51055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38320" y="4896000"/>
            <a:ext cx="274320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38520" y="487692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314360" y="518148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43360" y="5162400"/>
            <a:ext cx="1409760" cy="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95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2819520"/>
            <a:ext cx="672444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8  93  81  98  69  95  74  87  81  75  83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62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3480" y="331488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9  74  75  78  81  81  83  87  93  95 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4019400"/>
            <a:ext cx="7924680" cy="886320"/>
            <a:chOff x="399960" y="4019400"/>
            <a:chExt cx="7924680" cy="886320"/>
          </a:xfrm>
        </p:grpSpPr>
        <p:sp>
          <p:nvSpPr>
            <p:cNvPr id="121" name=""/>
            <p:cNvSpPr/>
            <p:nvPr/>
          </p:nvSpPr>
          <p:spPr>
            <a:xfrm>
              <a:off x="399960" y="4172040"/>
              <a:ext cx="792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71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478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478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382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82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289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89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196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89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196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196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100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100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007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007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914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2240" y="43243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65     70      75      80     85      90      95     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81120" y="582948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53360" y="58104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582948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2640" y="582948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0680" y="584820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619600"/>
            <a:ext cx="3638520" cy="5716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95720" y="5619600"/>
            <a:ext cx="0" cy="5907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752120" y="5924520"/>
            <a:ext cx="97164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515280" y="5905440"/>
            <a:ext cx="87624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26160" y="2943360"/>
            <a:ext cx="72396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7520" y="29638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87880" y="2986200"/>
            <a:ext cx="72396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-and-whisker plot for each set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75248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 18  59  75  30  34  25  49  27  16  21  58  71  19  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98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6  16  18  19  21  25  27  30  34  49  50  58  59  71  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8600" y="4724280"/>
            <a:ext cx="8915400" cy="688320"/>
            <a:chOff x="228600" y="4724280"/>
            <a:chExt cx="8915400" cy="688320"/>
          </a:xfrm>
        </p:grpSpPr>
        <p:sp>
          <p:nvSpPr>
            <p:cNvPr id="158" name=""/>
            <p:cNvSpPr/>
            <p:nvPr/>
          </p:nvSpPr>
          <p:spPr>
            <a:xfrm>
              <a:off x="228600" y="48769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4952880"/>
              <a:ext cx="89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5     20     25     30     35     40     45     50     55     60     65     70     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86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05800" y="57769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348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3040" y="577224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4800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15920" y="5546880"/>
            <a:ext cx="538488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33680" y="552456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" y="5867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409800" y="5854680"/>
            <a:ext cx="225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6686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-and-whisker plot for each set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175248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8  149  200  101  128  196  186  150  129  176  192  1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898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101  128  129  138  149  150  176  186  190  192  196  2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00" y="4724280"/>
            <a:ext cx="8915400" cy="688320"/>
            <a:chOff x="228600" y="4724280"/>
            <a:chExt cx="8915400" cy="688320"/>
          </a:xfrm>
        </p:grpSpPr>
        <p:sp>
          <p:nvSpPr>
            <p:cNvPr id="209" name=""/>
            <p:cNvSpPr/>
            <p:nvPr/>
          </p:nvSpPr>
          <p:spPr>
            <a:xfrm>
              <a:off x="228600" y="48769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" y="4952880"/>
              <a:ext cx="89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90   100    110   120   130   140   150   160   170   180   190   200   2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86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68560" y="577836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20000" y="57769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71760" y="57657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7120" y="578484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5000" y="57657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1600" y="5562720"/>
            <a:ext cx="401328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30680" y="553716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82320" y="5854680"/>
            <a:ext cx="214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426080" y="5854680"/>
            <a:ext cx="56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6686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97560" y="28065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52960" y="37209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11560" y="27939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83560" y="27939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89120" y="370836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38960" y="3708360"/>
            <a:ext cx="8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box-and-whisker plot to answer each ques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325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5034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           60           70           80          90          100         110       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640" y="32115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20000" y="31957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4480" y="321300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33840" y="320364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03680" y="319896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28720" y="2995560"/>
            <a:ext cx="2881440" cy="57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73520" y="299880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2880" y="3287880"/>
            <a:ext cx="118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597200" y="327348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880" y="2076480"/>
            <a:ext cx="85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     l     l     l     l     l     l     l     l     l     l     l     l     l    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569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ices of Portable CD Players ($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681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 What are the highest and lowest prices for the CD playe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066760" y="42703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$5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497400" y="4275000"/>
            <a:ext cx="1218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$11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5103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 What is the median pri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88040" y="504036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$7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box-and-whisker plot to answer each ques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325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25034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           60           70           80          90          100         110       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640" y="32115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0000" y="31957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44480" y="321300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33840" y="320364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03680" y="319896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28720" y="2995560"/>
            <a:ext cx="2881440" cy="57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73520" y="299880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2880" y="3287880"/>
            <a:ext cx="118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597200" y="327348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880" y="2076480"/>
            <a:ext cx="85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     l     l     l     l     l     l     l     l     l     l     l     l     l    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569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ices of Portable CD Players ($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832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.  What is the lower quartile pri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57800" y="376884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$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5165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.  What is the upper quartile pri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32680" y="446724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$8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299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.  Are the prices evenly distribute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0520" y="6151680"/>
            <a:ext cx="8543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There is a wider spread of prices on the top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411960" y="5329080"/>
            <a:ext cx="68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7:55:50Z</dcterms:created>
  <dc:creator>Don Helms</dc:creator>
  <dc:description/>
  <dc:language>en-US</dc:language>
  <cp:lastModifiedBy>DAMON SKELTON</cp:lastModifiedBy>
  <dcterms:modified xsi:type="dcterms:W3CDTF">2004-04-09T03:20:00Z</dcterms:modified>
  <cp:revision>15</cp:revision>
  <dc:subject/>
  <dc:title>No Slide Title</dc:title>
</cp:coreProperties>
</file>